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9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C3C-4526-4DD1-ACFC-B7F52560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2AE-D499-4567-8603-15F8A019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5DB3D-A332-4FCC-A251-12F7FCE8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A7807-3E47-4308-B89B-786A92F1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A1D8D-644D-4035-95EE-9F798185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5006C-E265-4DE5-BEA3-300B506B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55524-00A1-43B4-B39C-C977553B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E7D4E-8DCC-4DBD-9DBC-5E214443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39E17-CDE7-4177-981F-DC08C7C6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D8118-36A4-4FA6-8463-AC5C4E65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329DA-9BFF-4356-B7B8-D8BB8612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42174-0A4B-4791-A7A0-EDA77008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7CD-498F-40DE-A52C-CDA2500C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D418E-4ECC-4E23-B80E-754822A7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1AEB6-663B-4977-AA82-388DD9DC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A60D5-D967-4CFB-A2C2-EA66FB09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0FC32-0C61-402E-930E-32789753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A14D2-BD41-4048-852E-663B6BCA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31BE3-A5C0-4135-AB07-5165896E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61271-45AA-4F79-8445-414F17E7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8C7A6-6CB2-494E-9D3A-06498C5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251EB-C31D-4A51-BE2F-CC64496E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EEEAF-D062-4522-920E-AE7B2C64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D31-4785-48D1-ACF6-EC9DE302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C76EF-3258-4F4A-A2B0-3FBBD841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0A7E2-D6C2-4323-9ADA-72BC4DE0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D45E8-00BC-419E-B636-F4731929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3DC0A-19B3-4511-B936-7B724CDC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69A0F-528D-4172-B540-94761654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5A657-75F2-4631-B156-70E3DD6B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B2AFE-5849-4650-9817-3CA6F01F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479B0-D133-46DE-BDFC-75B6FD06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F85D3-A337-40B4-8A56-90883C89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07111-E95C-4F98-B250-C2E2D391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DE54-9D12-466B-8F22-BD6B1BBC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0DE83-1626-48C6-979A-40F43B0D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63953-440C-4B0F-9F4B-2E9DF493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C50D0-FE15-4D0E-BEEC-6B0A1031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7843F-60CB-4C67-9535-495403F7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1BB12-BF29-4616-AE25-EFBE7F39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C4B87-F693-4C07-8808-D248AF91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50E01-0B03-45E1-B92C-E4980F37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76368-0E3A-43DA-A809-9E199AA4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A7108-8ECC-4EFF-96BF-4F47C184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92A1A-64B8-400C-B615-DD49B52D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6799-2763-4960-BA46-4C457F26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A2274-30AA-49C8-8889-EFC9BA65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48603-EA2C-42A0-82E2-38120BA1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F3199-6D23-4F4C-AFA6-794E375B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5F72E-5A78-4D21-A306-0D9DBF50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DE1CE-66C4-46E2-B65F-ADF91089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48DE-6D0C-4384-B73E-4F4E1A99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AFE9-020D-4730-A954-B82FCE5C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3EAC-E04D-4E7D-98CD-083F4615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29E2-3F90-4A73-BA4B-D90C4468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9EDF-3AAE-480F-BABC-A94BD921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F8A-338B-4E85-86DE-56691463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67B4-825B-4D86-9DF6-55FFCF21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2B3F-0032-4A22-B1CC-D6086A1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2574-A59C-489B-83FA-71D87AAA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CB94-0636-47FC-BFF5-D5C1B519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B4E7-BAD2-4CFB-8AD5-4F20AEBD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AE16-0930-49E3-8128-0BEB3AA1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A8B6-5554-4672-BCC4-AD24DBD1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FD66-174D-4B41-AFDF-3C19EA36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588B-63FC-41A2-8FA9-E49D2ED3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2E93-6247-4BC6-8C3A-4285385D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9DB-27DF-40AD-AE28-D3076B81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2488-9C27-4F9F-8E15-F24BB2A6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0114-F89C-4C19-8A10-A5205815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A8D94-388E-444B-A1F4-5A1381F1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30F4-F902-457E-908C-9CEE422D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1FE6-40E3-44ED-B29C-57A4A8D3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93AF-8767-4B95-8031-9E4AD078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422C-E9B7-42A2-A703-1D6F7B54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8B14B-1620-4766-ACF3-19868193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47B5-33B9-4975-8CCF-2C148930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BE36C-BE4A-4913-A42E-3939B845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371-14AA-4A7F-8196-143A72F3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47A9F-F187-484E-A4CB-00057EC3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D1E18-25D1-4BE8-912D-2148D94A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24AC-ED61-4187-830F-CECAA45B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10DB-2C1B-4DD6-AA8D-3D038ED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BDF91-41BF-4140-BAFF-36649D8B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B2E90-212C-4A36-B60C-4F202F51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8850-5B28-4E7F-A2DB-C736D8A3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7E857-730B-4E1E-84B2-8CAE9001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3410-55EE-4148-960D-FF7EADB3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46D5C-1F38-49A1-B3F5-FFBA2BC3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894-3552-4FD9-8063-DF39657A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61DF1-820C-42AD-8274-98592C71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B4885-3AB9-48EF-88E9-C807E5C2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1A11B-C7B5-4AE3-B075-8ECDC73A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3555A-28BE-4809-BA52-8C1C32CE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EE256-8E66-4E4C-93F2-32D92232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8479-5F00-40F3-AE92-324DC63B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45A7D-6586-4EE0-982B-52781A0E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FEB0B-892E-4B8D-B79E-0E7334E3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849F3-2E92-4560-90B9-8B4ADE33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B733A-3113-43C6-A57C-DAE9C86B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201-F026-408A-A3FB-1ACAF528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469F0-70FA-445D-94D4-2043A320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ED6FC-EF76-4E54-B8A0-F92C9983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A5389-F6A8-4A36-9AB0-ADDCC7BB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8811F-F2F4-465A-975F-6BC4BF58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89188-D580-447B-B5A4-C154BCF2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6CE37-9E25-47D1-8112-E7C2FE3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C9C88-ECB1-47C0-94E4-AF1C2612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8BF9-1EF6-4246-893B-5739BC7F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E01F-0392-47B0-81BE-298E884A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0335A-6CA4-4F81-955F-197B3A2A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618-7401-471A-87E9-30A3CB5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7340B-981B-4670-9CB9-D8161AE7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17230-7B98-4939-B679-10A2DE45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64FE-3CFB-4DA4-8718-FA12D403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52B0B-5AB2-41CD-902B-AEA982CB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40B95-6440-4CB6-8E5D-13D7C404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26382-8C7C-445A-9D8B-7B650902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47AD6-6CEF-40A6-941D-98EFD828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07568-DEBF-4D88-9A16-87249453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B308C-13D6-47CD-A0F7-75CCD931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A9F18-6F17-4A3B-801A-3188B461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C10-2C89-492B-9FC8-61E847C7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8770F-EB40-42BB-882F-2564C1C8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766CD-5FDE-418C-BF87-4289E329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11A5C-21E9-4DC1-8949-261D40B7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01B75-60B4-4469-B228-439A0AF1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DFAA-1C70-421F-B888-23AEE9A9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1855E-DE8F-4E43-A181-F804DA01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45EBF-F938-456C-9A14-2731358B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60529-7A4E-4197-8444-EB173F44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F38D1-4F33-47FA-A831-896700D8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8E576-A94C-41E4-80E1-EB17C43D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43B-4AF8-46A1-9B46-270819CD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32DF3-4DE3-4A35-B41F-DD08A102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7D34E-6603-4D5E-878A-125DA4AF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FE3B-84CB-4424-A95C-63DA24C7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EA438-D3C7-46FC-882A-FF3CE8EA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3CECC-4927-409E-AE3D-787EE9B9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FFAE5-C2B6-44AA-BE82-131D86A6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F2B09-CD87-409A-8577-9B75DA1D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0C762-E387-4BA0-B89C-3101BFBC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CE74E-6BD6-4CED-B748-7DDE0918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B4626-9B5D-4F2E-9285-A9E2F6A0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2F5B-4983-4C12-A405-A4F552B109E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E70D-7E75-4B19-971A-E961983846F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7CD7-7872-4238-BF03-78B0C614B2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43CC-7B8F-4153-B473-EBABE0A128C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8524-29BE-4A3E-A0DF-BBABFEAD971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9989-80A4-48E3-8C07-98BF9BB2529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D862-A61E-4E5F-AC46-F7EEFCCADA2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BA54-721C-4F5F-99A0-0DBA57489E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219D-1974-4C8A-9193-DF63AA054F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AEFE-8AFB-4EDE-9FB7-0765D232D1D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FA07-9B00-436D-9081-820EC55FA1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7EB9-65FF-4573-B32F-35E877296C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Заголовок 4" descr=""/>
          <p:cNvPicPr/>
          <p:nvPr/>
        </p:nvPicPr>
        <p:blipFill>
          <a:blip r:embed="rId1"/>
          <a:stretch/>
        </p:blipFill>
        <p:spPr>
          <a:xfrm>
            <a:off x="530280" y="133200"/>
            <a:ext cx="7864560" cy="179892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642600" y="3228480"/>
            <a:ext cx="77454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Цель работы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оказать многообразие превращений квадрата в другие фигуры и дать математическое обоснование возможности таких преобразований при разрезании квадрата на 7 частей способом, предложенным в головоломк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97" name="Picture 2" descr="C:\Users\Эд\Pictures\Мои обои\Сборник\Снова Windows - фон.jpg"/>
          <p:cNvPicPr/>
          <p:nvPr/>
        </p:nvPicPr>
        <p:blipFill>
          <a:blip r:embed="rId2"/>
          <a:stretch/>
        </p:blipFill>
        <p:spPr>
          <a:xfrm>
            <a:off x="2143080" y="1643040"/>
            <a:ext cx="47862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Тысячи лет назад китайский ученый Та-Нг очень остроумно разрезал квадрат. В последствии его идея стала основой игры «танграм»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99" name="Picture 3" descr="C:\Users\Эд\Pictures\Картинки\Clipart\Люди\Национальность\Китайцы\00029760.jpg"/>
          <p:cNvPicPr/>
          <p:nvPr/>
        </p:nvPicPr>
        <p:blipFill>
          <a:blip r:embed="rId1"/>
          <a:stretch/>
        </p:blipFill>
        <p:spPr>
          <a:xfrm>
            <a:off x="426960" y="2500200"/>
            <a:ext cx="3900600" cy="3429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1" name="Picture 2" descr="C:\Users\Эд\Pictures\Untitled.png"/>
          <p:cNvPicPr/>
          <p:nvPr/>
        </p:nvPicPr>
        <p:blipFill>
          <a:blip r:embed="rId2"/>
          <a:stretch/>
        </p:blipFill>
        <p:spPr>
          <a:xfrm>
            <a:off x="3571920" y="1857240"/>
            <a:ext cx="5572080" cy="450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13880" y="1714680"/>
            <a:ext cx="37436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оловолом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з семи частей квадрата составь три одинаковых квадра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4" name="Picture 2" descr="C:\Users\Эд\Pictures\Картинки\Clipart\Предметы\Разное\00037473.jpg"/>
          <p:cNvPicPr/>
          <p:nvPr/>
        </p:nvPicPr>
        <p:blipFill>
          <a:blip r:embed="rId1"/>
          <a:stretch/>
        </p:blipFill>
        <p:spPr>
          <a:xfrm>
            <a:off x="0" y="0"/>
            <a:ext cx="4143240" cy="20001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C:\Documents and Settings\эд\Мои документы\Мои рисунки\2008-11 (ноя)\3.jpg"/>
          <p:cNvPicPr/>
          <p:nvPr/>
        </p:nvPicPr>
        <p:blipFill>
          <a:blip r:embed="rId2"/>
          <a:stretch/>
        </p:blipFill>
        <p:spPr>
          <a:xfrm>
            <a:off x="4535640" y="1785960"/>
            <a:ext cx="3965400" cy="15001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C:\Documents and Settings\эд\Мои документы\Мои рисунки\2008-11 (ноя)\4.jpg"/>
          <p:cNvPicPr/>
          <p:nvPr/>
        </p:nvPicPr>
        <p:blipFill>
          <a:blip r:embed="rId3"/>
          <a:stretch/>
        </p:blipFill>
        <p:spPr>
          <a:xfrm>
            <a:off x="4429080" y="3857760"/>
            <a:ext cx="4714920" cy="207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а арабского математика Абул Вефы, который жил в 10 веке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ить квадрат из трех равных квадра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Picture 2" descr="C:\Users\Эд\Pictures\Картинки\Clipart\Люди\Национальность\Арабы\00026772.jpg"/>
          <p:cNvPicPr/>
          <p:nvPr/>
        </p:nvPicPr>
        <p:blipFill>
          <a:blip r:embed="rId1"/>
          <a:stretch/>
        </p:blipFill>
        <p:spPr>
          <a:xfrm>
            <a:off x="5214960" y="1852560"/>
            <a:ext cx="3429000" cy="44751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" descr="C:\Documents and Settings\эд\Мои документы\Мои рисунки\2008-11 (ноя)\2.jpg"/>
          <p:cNvPicPr/>
          <p:nvPr/>
        </p:nvPicPr>
        <p:blipFill>
          <a:blip r:embed="rId2"/>
          <a:stretch/>
        </p:blipFill>
        <p:spPr>
          <a:xfrm>
            <a:off x="214200" y="3357720"/>
            <a:ext cx="500076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3214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Сформулируем задание головоломки как геометрическую задачу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85480" y="1676520"/>
            <a:ext cx="31431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Показать, каким образом нужно разделить данный квадрат прямоугольными разрезами, чтобы переложением полученных частей можно было составить три сплошных квадрата, равных между соб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574800" y="571320"/>
            <a:ext cx="511164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6000"/>
          </a:bodyPr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сновная иде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если из трех искомых квадратов составить прямоугольник, то одна его сторона будет в три раза больше другой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уть решения задач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сначала превратить данный квадрат в прямоугольник, одна сторона которого втрое длиннее другой, а затем этот прямоугольник двумя разрезами разбить на три квадрата.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мем сторону данного квадрата АВС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за 1 . Его площадь будет равна  1 кв. ед. Прямоугольник, который мы предполагаем составить из частей квадрата,  тоже будет иметь площадь 1 кв. ед . Но так как одна его сторона должна быть втрое больше другой, то длины сторон прямоугольника (одну из них обозначим х, а другая будет 3х) можно найти из уравнени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х∙х=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х=1 ∕√3 – длина одной стороны прямоугольник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√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 = – длина другой стороны прямоугольник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27432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остроение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13840" y="1285560"/>
            <a:ext cx="34290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642920" y="1285560"/>
            <a:ext cx="43578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Е =√2 (как диагональ квадрата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АЕ=√3 (как гипотенуза прямоугольного ∆ 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Е 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оведем В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||АЕ ,  АВ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Е – параллелограмм 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з точек В 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пустим перпендикуляры ВК 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 на прямую АЕ. Получим прямоугольник В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тложим на стороне 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трезок 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=В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а на стороне В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– отрезок ВМ=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проедем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N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||АЕ и МР|Е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Тремя разрезами 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ВК 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N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вадрат АВС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разделился на 4 части, обозначенные на рисунке цифрами 1,2,3,4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такие же части делится и прямоугольник В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К разрезами Е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Р и В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аким образом, из частей 1,2,3,4 квадрата АВС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действительно можно составить прямоугольник В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19240" cy="2286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C:\Documents and Settings\эд\Мои документы\Мои рисунки\2008-11 (ноя)\5.jpg"/>
          <p:cNvPicPr/>
          <p:nvPr/>
        </p:nvPicPr>
        <p:blipFill>
          <a:blip r:embed="rId2"/>
          <a:stretch/>
        </p:blipFill>
        <p:spPr>
          <a:xfrm>
            <a:off x="285840" y="2143080"/>
            <a:ext cx="442908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езультаты построения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Перенумеруем все составные части квадрат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Дополнительные построе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ложим на прямой А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трезки К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А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, каждый из которых равен ВК (стороне малого квадрат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точек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Т опустим перпендикуляры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Т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к прямой А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7 частей квадрата АВС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равны соответствующим частям прямоугольника В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Н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4" name="Picture 2" descr="C:\Documents and Settings\эд\Мои документы\Мои рисунки\2008-11 (ноя)\7.jpg"/>
          <p:cNvPicPr/>
          <p:nvPr/>
        </p:nvPicPr>
        <p:blipFill>
          <a:blip r:embed="rId1"/>
          <a:stretch/>
        </p:blipFill>
        <p:spPr>
          <a:xfrm>
            <a:off x="214200" y="2786040"/>
            <a:ext cx="428652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6:12:31Z</dcterms:created>
  <dc:creator>Эд</dc:creator>
  <dc:description/>
  <dc:language>en-US</dc:language>
  <cp:lastModifiedBy>эд</cp:lastModifiedBy>
  <dcterms:modified xsi:type="dcterms:W3CDTF">2008-11-10T07:44:06Z</dcterms:modified>
  <cp:revision>17</cp:revision>
  <dc:subject/>
  <dc:title>Слайд 1</dc:title>
</cp:coreProperties>
</file>